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52135"/>
        <c:axId val="28449343"/>
      </c:barChart>
      <c:catAx>
        <c:axId val="61352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49343"/>
        <c:crosses val="autoZero"/>
        <c:auto val="1"/>
        <c:lblAlgn val="ctr"/>
        <c:lblOffset val="100"/>
        <c:noMultiLvlLbl val="0"/>
      </c:catAx>
      <c:valAx>
        <c:axId val="28449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52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DE9-7B88-4C7C-A598-83547975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B98-E6D8-4375-86A0-CB439D01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C23-F453-405D-A529-BDD96B89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E7A-1E88-4D02-943D-241DF6D7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B98-9406-4E29-BF79-B7AA10DB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867-15F1-47DC-9B63-04753561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19B-F157-4F3B-934F-A85D266E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53C-4320-44D6-BD85-7412807A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42D-6B70-4759-96DB-0FFF15D0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B67-0835-4401-80FF-63944E2C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5AD-6BB4-432A-B00E-40B2AA9C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C1D-A910-4366-BBBB-AE3F2914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B87BC-8DBE-4215-B4D8-F2B572DA3B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