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580815"/>
        <c:axId val="6802599"/>
      </c:barChart>
      <c:catAx>
        <c:axId val="125808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2599"/>
        <c:crosses val="autoZero"/>
        <c:auto val="1"/>
        <c:lblAlgn val="ctr"/>
        <c:lblOffset val="100"/>
        <c:noMultiLvlLbl val="0"/>
      </c:catAx>
      <c:valAx>
        <c:axId val="68025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5808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77D9-3027-4937-9B5C-9CC2C8285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E06E-0F69-4D53-BB4A-A6D29670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6ED4-82E2-4B88-8E86-36F5BD608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C936-AE79-4592-94C2-A876C85DB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93A4-6C83-4E59-99AA-B875E181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5D6B-BBEA-4FDF-A18C-E401F1F2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3AEA-7ABA-4E0C-AF0B-7B317A0F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31AE-6E5D-4358-9AF5-3A7AC43A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D1E8-1293-46B6-997F-E1C3D7E2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BA74-9DD8-4994-AAFD-AD5156DC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0A27-C62B-4E04-B7E4-7CC499C5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EBAD-7286-4058-AEA8-A06FAC0E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7D831-6CDE-4703-8BB4-DBE0570A10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