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8985"/>
        <c:axId val="6974547"/>
      </c:barChart>
      <c:catAx>
        <c:axId val="2938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547"/>
        <c:crosses val="autoZero"/>
        <c:auto val="1"/>
        <c:lblAlgn val="ctr"/>
        <c:lblOffset val="100"/>
        <c:noMultiLvlLbl val="0"/>
      </c:catAx>
      <c:valAx>
        <c:axId val="6974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8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0DA-0BAD-44AE-AB05-50EF2D03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5FB-EBA8-434E-B4B4-DDEDAD60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202-0A3A-4C83-9F54-6E9916D0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FD6-981D-4EF4-8D2F-CCBD0C31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ACA-9D03-4624-BD9A-56AD6FEE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228-2DB5-41E7-AD1C-AF446D4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902-6F1D-4FC7-8756-59ADC18D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C29-36E1-4133-BF76-0EE6C00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778-239B-4EE5-955B-3116BC6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E36-011B-4CB5-82E6-451CCAD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CE1-D63E-47F7-A196-5CD7214A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759-A228-4405-9038-A9AFB6A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98F06-7D29-4C3D-B3F1-DE1BDF51E5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