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3340905"/>
        <c:axId val="56021114"/>
      </c:barChart>
      <c:catAx>
        <c:axId val="4334090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021114"/>
        <c:crosses val="autoZero"/>
        <c:auto val="1"/>
        <c:lblAlgn val="ctr"/>
        <c:lblOffset val="100"/>
        <c:noMultiLvlLbl val="0"/>
      </c:catAx>
      <c:valAx>
        <c:axId val="5602111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34090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7FBAF-6C7D-4D76-BD9A-2913CDF03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DEB02-4005-4A33-A7DA-C243426AD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C36D5-2DCB-483E-AA6B-0B67EFD62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470A5-52A1-431B-90B9-2B17EDA19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211F6-16B6-44AB-8388-0424C7A80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8971E-2920-415E-89C8-048A5B8DA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430ED-D60F-4B07-BA4C-0F70D4AAE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385EB-CECD-4208-BCC2-9BACD44BB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761D5-1D6A-4FC6-B803-C26010460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2E16B-24C6-4D85-A9D1-5FE639672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E8EEC-2534-4DD5-949B-09765581D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744BC-5F7C-4E8A-AC30-390C10437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025CF8-E9B8-4070-AE31-1066ED08C67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