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75915"/>
        <c:axId val="52261232"/>
      </c:barChart>
      <c:catAx>
        <c:axId val="11575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61232"/>
        <c:crosses val="autoZero"/>
        <c:auto val="1"/>
        <c:lblAlgn val="ctr"/>
        <c:lblOffset val="100"/>
        <c:noMultiLvlLbl val="0"/>
      </c:catAx>
      <c:valAx>
        <c:axId val="522612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75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DCC-07D7-4245-907C-753F436D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37E-0C62-4E99-B527-4554BCA3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204-0515-4741-832D-C9BFE765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A5E8-F2B2-40A9-9566-1F581360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C40-A786-4D43-9D4C-A8F42AC7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592F-0A3E-4DC0-840C-0BD5CD03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BD5-28D5-4B79-A0D0-EAD28857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650-E280-4E92-8AF3-BFA704B0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A4F-AD14-4697-86E7-C0257EFC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E007-8933-4D41-94C3-3E9E0F8B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DC1-2164-4A3D-8B26-A6C1E668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AA7-733F-4E05-BBC3-643FC451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5396E-0B20-404B-A9F5-26CD25B4E4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