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616193"/>
        <c:axId val="15835090"/>
      </c:barChart>
      <c:catAx>
        <c:axId val="47616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5090"/>
        <c:crosses val="autoZero"/>
        <c:auto val="1"/>
        <c:lblAlgn val="ctr"/>
        <c:lblOffset val="100"/>
        <c:noMultiLvlLbl val="0"/>
      </c:catAx>
      <c:valAx>
        <c:axId val="158350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616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995-AA45-4520-BF6A-9D47CFEA0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78D9-E935-43D4-A1A4-095B9F27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2F1A-DC67-43CF-B65C-1200221F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3BB-026A-41E3-B9DE-F7F6EC33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F27C-3D1A-440C-825C-41375831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574F-A075-482A-9EE7-B5091E71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1B7-133F-412F-A813-F4E0B002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FDC-35D2-45FF-9E2F-316EDF4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D0C1-6C32-4616-AC1E-76E103F9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1914-7B9F-4D71-BD81-B9AE53CE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F748-9A47-4F33-A0AD-2E7702D6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D960-03DD-4A81-AAE2-DC7A078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26DD3-F35F-451E-9819-CE5DFC6C04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