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83890"/>
        <c:axId val="76849957"/>
      </c:barChart>
      <c:catAx>
        <c:axId val="38183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49957"/>
        <c:crosses val="autoZero"/>
        <c:auto val="1"/>
        <c:lblAlgn val="ctr"/>
        <c:lblOffset val="100"/>
        <c:noMultiLvlLbl val="0"/>
      </c:catAx>
      <c:valAx>
        <c:axId val="76849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83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BCB-3DD3-43FB-86BF-80882E28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451-159A-4A54-9D4E-D3D5CA14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5D8-9C05-4FAE-9AC2-134CFD9C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F0D-041F-493F-B4C0-661B24DA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3EA-30C0-4563-8634-EF8A1F84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3D9D-D8C9-4D60-8212-1C11F332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410-E68F-4812-A0DA-CD1B1FFD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6F11-03AB-4A10-937B-069F26EE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EF11-87A5-440D-8419-DAB93FAD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A34-E329-4C3D-8375-AC75C354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1BDF-97B6-4EA0-8FF3-F08B4877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6D3-769F-4A01-B443-476754F8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793D8-D804-4136-93C3-3C467014AA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