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943427"/>
        <c:axId val="27790650"/>
      </c:barChart>
      <c:catAx>
        <c:axId val="349434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90650"/>
        <c:crosses val="autoZero"/>
        <c:auto val="1"/>
        <c:lblAlgn val="ctr"/>
        <c:lblOffset val="100"/>
        <c:noMultiLvlLbl val="0"/>
      </c:catAx>
      <c:valAx>
        <c:axId val="277906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434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FE88-B16A-489A-84D7-A694F948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CE1-5A47-4B29-AC31-1CC92611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DBC0-0321-421F-8A18-6F39AD39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561B-B033-4A34-B0A7-1992DEF1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23B3-3BE0-4C38-9FED-9585C03D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6047-085B-4E36-8158-0E716B2A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7A5-6C41-4C9F-8FEF-313E5E88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6712-B02D-47DA-8A85-C6555B8A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D380-3E16-4BCD-88FB-9451B86B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F588-6F8F-457D-9542-490D7AD1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0BD9-2354-4645-895D-9281E7A4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BD23-2B47-4DB5-89E3-33BB9BE7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BB34F-8BC0-4899-9E0D-31782D5E01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