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6757"/>
        <c:axId val="67449527"/>
      </c:barChart>
      <c:catAx>
        <c:axId val="2366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49527"/>
        <c:crosses val="autoZero"/>
        <c:auto val="1"/>
        <c:lblAlgn val="ctr"/>
        <c:lblOffset val="100"/>
        <c:noMultiLvlLbl val="0"/>
      </c:catAx>
      <c:valAx>
        <c:axId val="67449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B39-29A0-461C-BA5F-66BA0FE2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1C3-17C9-42DB-B3FF-9745A9A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F78-D1CB-4861-9C58-3D5CB7DE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947-CA39-4F10-AF52-482EDDDA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B89-93FF-42DB-8796-87ACF7D2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9F1-5B3C-4516-BE90-D536754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F82-4F05-4025-932B-FBCA024A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30E-5E9B-4508-B6EA-FBC8104E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558-939A-4AA7-94B5-9A7C7CB1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5B5-5DF3-41E0-B86B-4C7149A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FF3-9DEB-44D5-A6FB-CA1F829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9E2-D5C9-4E82-9552-3BF59AC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215DA-B767-4FD9-AC2F-092DCBE8BE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