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42319"/>
        <c:axId val="4017800"/>
      </c:barChart>
      <c:catAx>
        <c:axId val="37423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17800"/>
        <c:crosses val="autoZero"/>
        <c:auto val="1"/>
        <c:lblAlgn val="ctr"/>
        <c:lblOffset val="100"/>
        <c:noMultiLvlLbl val="0"/>
      </c:catAx>
      <c:valAx>
        <c:axId val="40178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423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0BFC-0F85-4244-9ACD-53ECF55A3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F49F-31E3-4B08-AAF8-0403197A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992F-1AC0-4C26-8EDC-2F09D1FE5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7D8A-E64E-40F2-BFDE-28CEF84A5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0C83-9266-470A-967C-B0B30A0A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4D25-A752-4EAC-9ED2-3A9BC8AE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17D0-8A74-4727-A788-DF266838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7661-1DAD-423E-9F15-BC7512CF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1C77-00C6-47BF-B42D-4C605129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D882-71DE-4503-98D0-DB25EF45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40E9-01DB-42E2-B4FA-B967EAD0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A8DC-84E6-47B2-9A16-14223CD2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CAC591-3E61-4B7D-8A51-AECCA506EA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