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29563"/>
        <c:axId val="21390111"/>
      </c:barChart>
      <c:catAx>
        <c:axId val="29929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0111"/>
        <c:crosses val="autoZero"/>
        <c:auto val="1"/>
        <c:lblAlgn val="ctr"/>
        <c:lblOffset val="100"/>
        <c:noMultiLvlLbl val="0"/>
      </c:catAx>
      <c:valAx>
        <c:axId val="21390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29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E9A9-71A8-4DE8-BE35-9A45B12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905-5B37-4CD2-900D-855DC128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445-7965-4D28-873F-F773B1E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7A0-9F37-44C8-869C-2F83D0AE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3F9-DF39-4DF3-AD55-FF68788B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654-E1BD-45EC-B4B8-AFD4557F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F70-1588-4D2A-B6DA-3156322D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EB7-38A7-4993-AFE1-17E948D8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D0F-DC03-496C-A261-361E8D46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15C-AB76-48EC-964C-215525D7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E860-28BE-4AC8-9C13-7A30CB6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ADA-AC7A-4527-9F2D-296E3AF8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D28B3-3981-41E7-AF11-0BA34297C2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