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2974"/>
        <c:axId val="55634567"/>
      </c:barChart>
      <c:catAx>
        <c:axId val="2482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4567"/>
        <c:crosses val="autoZero"/>
        <c:auto val="1"/>
        <c:lblAlgn val="ctr"/>
        <c:lblOffset val="100"/>
        <c:noMultiLvlLbl val="0"/>
      </c:catAx>
      <c:valAx>
        <c:axId val="55634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2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856-B7C1-4C86-9EBA-447D3BC1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1ED-CD8B-4E37-9091-70A41371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ABC-8BEA-4362-950F-78990732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081-E2A2-4850-AC45-6479CCBF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A48-7E03-4167-8C16-1259A772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298-37A0-4800-978F-20AC6F1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6EF-1402-4CCE-93A0-B743044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5FF-581A-4BF9-ADB5-94390EB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734-0004-49DF-9C4D-AA4AF81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025-134D-4DFC-B7BB-749BE09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356-12DE-46AF-A711-A3D6F33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BA2-0FAB-45BA-92A7-ADD4B70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8217-A72A-4CE1-9C36-18D3946A5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