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920"/>
        <c:axId val="36921960"/>
      </c:barChart>
      <c:catAx>
        <c:axId val="3825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1960"/>
        <c:crosses val="autoZero"/>
        <c:auto val="1"/>
        <c:lblAlgn val="ctr"/>
        <c:lblOffset val="100"/>
        <c:noMultiLvlLbl val="0"/>
      </c:catAx>
      <c:valAx>
        <c:axId val="36921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DD6-0B2E-4F48-AFBC-FC6B0997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AE1-DB05-486B-8F4E-E59D47C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358-3509-482A-ADE0-03C76281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D1B-A185-45D8-AEC7-6A63111F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259-3A47-4C7B-AA0F-CB25380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EF4-DFED-45FF-A038-2D5CA53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BF1-6ECF-41BD-A538-FEA4D3D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B2D-AB30-4746-B6F6-FB7D6BD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AA1-1BA5-4629-B744-A0E5F43C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6CD-B4EC-4589-95E2-3C5D769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05E-511F-47E3-B564-FB4759A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570-D06F-457C-AE13-96EADD6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92B67-018B-43B0-BD59-0AA7EF6BB7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