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41062"/>
        <c:axId val="92407367"/>
      </c:barChart>
      <c:catAx>
        <c:axId val="77941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07367"/>
        <c:crosses val="autoZero"/>
        <c:auto val="1"/>
        <c:lblAlgn val="ctr"/>
        <c:lblOffset val="100"/>
        <c:noMultiLvlLbl val="0"/>
      </c:catAx>
      <c:valAx>
        <c:axId val="92407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41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CDC-C9F3-4496-A5D0-D7AE360F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B01-52C9-4620-BF92-ADF2ECBA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E9B-4C56-46F4-A96A-C830955E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51E-C212-4FE6-ACB0-B3CD959F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C11-8366-4D84-90E7-7155E63B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815-4EE2-4298-BD84-CC60936C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49D-4403-4D7D-8FD2-C9063A63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DD5-83FE-4BC8-B75D-D9D4685A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6E0-09C7-4E18-A5B5-3DCDDAB6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5CD-6107-44FD-9CDC-F4BEB6C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BBC-818C-4AD6-A27C-D0881E77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FDB-723E-47FA-8C01-0264C1A5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18BF0-5413-4655-9126-0F951F48CE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