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44339"/>
        <c:axId val="71629041"/>
      </c:barChart>
      <c:catAx>
        <c:axId val="85644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29041"/>
        <c:crosses val="autoZero"/>
        <c:auto val="1"/>
        <c:lblAlgn val="ctr"/>
        <c:lblOffset val="100"/>
        <c:noMultiLvlLbl val="0"/>
      </c:catAx>
      <c:valAx>
        <c:axId val="71629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4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782-E73E-4182-ACF1-54F2B432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0F3-2B91-410B-8F23-E020109E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C2D-9BD1-4A31-AAC5-7EF37F48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533-14EC-47A2-8EF3-80FD7674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4AE-0367-441C-ADCF-4924395B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979-8268-4F08-B69C-B2AC32B2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5AB-1345-44A8-A9EE-82D8EB4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F82-F648-42F5-9E44-37CA6F7E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ED9-DD04-4B0B-8A79-DDD25CC4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0C9-0903-4A3D-9FB6-58A9216A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CFA-1D8D-47FD-ADF8-498D872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42A-5AD0-4A1D-858D-D274A550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B9AB0-4FCB-471B-8F65-C262A43ED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